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950-DEA8-43FB-BF9E-048A132D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A2D-A509-4AE5-935D-040B2C3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5F5-E7AD-4CCF-8536-FB7198CE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345-551D-41D8-A9A8-7F15266A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DC18-6019-432C-B430-6AC65693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2458-EB45-4B75-A9A1-7E67B25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ACAC-D983-40C4-9306-FB0B13E3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50C2-F94E-4CAE-A783-36AC8C8E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371-8214-4D65-B11B-29AC8777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CE82-BEC5-435C-AB61-59C9C8D3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2DFC-E372-4E43-9395-04EA1753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6D8-D716-4E46-8D4F-6D56696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1658-6043-48C1-91B7-292CAF44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8982-2A93-41D6-A269-3DA2A5A7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9BA8-FF0B-4BBC-A025-8CF99098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C39D-2F61-4D94-AA9B-75FD71EE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3949-7E2A-4E4B-A8CD-7BC131DB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C1E-6DC7-485A-9125-4FC93B9F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9AD-5FD1-448D-8F5E-9BFCCEE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613-FE1D-410E-8C49-56885EBB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CCC-B95B-4A63-9014-49B655D4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53E-0F5B-45DA-AB0D-714DC6C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434-BCC3-4E30-AB01-CFA8DC32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7D4-8499-41FB-BA17-DF3E7C9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A57-CA26-435A-9DDD-1D3E501B4F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858B-F9BC-4C80-8130-0F406A4A33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rrate Time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narration has been completed select Stop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60555" b="0"/>
          <a:stretch/>
        </p:blipFill>
        <p:spPr>
          <a:xfrm>
            <a:off x="4038480" y="28195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36576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1148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352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nar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nar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3341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ile with a recognizable name. The file will automatically be imported into the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ing up a completed digital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ing up work is a part of the movie making process. When the project is completed there are two options for backing up a movi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ither File&gt;Save movie or the Task P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Burn (create) a CD, or multiple CD’s of the Windows Movie Maker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Export the movie back to either video tape or a video camera. Future editing will require the user to import the completed movie and splice it to accommodate necessary 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758960"/>
            <a:ext cx="3962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ishing the movie – Choosing a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format for saving a movie. Will the movie be saved to CD, sent in an email, put on the Web, or exported to a Digital Video cam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9960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orting the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to e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create a movie clip with a small file size. There is a trade off between file size and picture quality. The smaller the file size, the lower the picture quality. The larger the file size, the higher the picture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ing up a completed digital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Movie&gt; Send to DV Cam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Follow through the Wiz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that you should put a different tape in the video camera or move the tape to a blank area so you do not inadvertently tape over the video you have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ving the Windows Movie Maker fi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le name cannot include the following characters: \ / : * ? " &lt; &gt; | , and must be less than 64 characters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iewing the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ing on how the movie was saved (CD, Computer, Video camera) play the movie and watch the result of your hard 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Windows Movie Mak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Movie Maker allows a user 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ap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mport) audio, create a narration, add video effects, and distribute our movie. This movie can be played on any computer, displayed on the web, saved to CD, or transferred to a video cam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r can easily create movie that includes a soundtrack, audio commentary, transitions, and special eff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ing the movie – 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effects allow the user to add filters to media, endowing it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, new images can be changed to black and white images or made to look like old fil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312444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4952880" y="510552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952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he video effect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video effect and left cl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the video effect over an image in the timeline. This image will then be altered by the eff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ing the movie – 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5110200" cy="3119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276720" y="4038480"/>
            <a:ext cx="83808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grey star in the box has turned blue. This indicates a video effect is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ing the movie – 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638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video effect is a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24080" cy="291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1981080" y="4876920"/>
            <a:ext cx="12193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ideo Eff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move a vide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ght click on the blue st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lete Eff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29131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luding Audio in the mov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can be added to a Movie Maker movie in the form of background music or voice-over nar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can be imported from a music CD, imported along with the video track, or recorded while watching the video play back as a voice-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ip – An inexpensive microphone from an electronics store (Staples, BestBuy, Circuit City, etc.) will significantly increase the sound quality of when recording audio from either the video camera or the compu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dio leve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levels can be set to increase or decrease the volume of a sound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7242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dio – Inserting a Nar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&gt;Narrate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tart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over the clips as they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6434280" cy="567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209680" y="434304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ate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4419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udio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181480" y="44197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648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from storyboard to timeline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6:55:33Z</dcterms:created>
  <dc:creator>OIT</dc:creator>
  <dc:description/>
  <dc:language>en-US</dc:language>
  <cp:lastModifiedBy>OIT</cp:lastModifiedBy>
  <dcterms:modified xsi:type="dcterms:W3CDTF">2007-03-11T17:31:27Z</dcterms:modified>
  <cp:revision>38</cp:revision>
  <dc:subject/>
  <dc:title>Windows Movie Maker</dc:title>
</cp:coreProperties>
</file>